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815C-C00E-4768-B272-4B2241F51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E860-ACB9-4343-98AE-E933E67C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BBBA-2546-40F6-92B2-59130721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4E32-89AC-494D-A1FA-2CAE59E44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71A54-AFCA-43F3-B5D3-DB0EBEC77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A771E-63C3-47F6-BCCC-56312A72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9C3CA-D081-4225-9BFE-953B0240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BD005-9998-4379-944B-82592853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2A01B-C5AA-4AB9-BB1D-80AB51A5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46CE8-3CC8-4E10-A3F9-C1566F23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65DC2-806F-49F1-8291-EEC905BD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1773-77B4-4C1B-B155-6F3001DF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B959E-8695-4B0E-82F4-14F9D884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970D5-2939-46E6-8996-C1BAAFFA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9F714-503E-4E3B-BEED-E4EAD85E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E4295-59C6-4E29-872C-B15B6CBCB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2D73B-746B-44DA-B6C1-76EFFD22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E6E2-0201-46AF-AF81-8FF68FDD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D641-359E-42F9-9AF7-F5C27E78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89C0-4090-42AB-ABFD-1F366E0C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7BF8-BD10-4B65-84F5-7CFA9CA7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805A-5671-4545-AF51-07AF1D79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C492-7E8C-4506-B000-7165137E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C0B3-DC1F-4EF1-AB66-D1F7351F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8A8F-88E2-46B4-BF06-A057C83E5E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DABE-A178-4057-944C-B2AFF128A7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ill There Was No Remedy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vided King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6, Lesson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, Pages 1-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ummary of Quart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ory of the Divided King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Prophets of the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See The Prophets Address Problems in Israel (North) and Judah (Sout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get a general feel for the kings of North and S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ere We Ar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on (Before the Floo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l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ttering of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atriarc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odus from Egy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nd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quest of the 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ed Kingd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vided Kingd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udah Al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620120" y="1828800"/>
            <a:ext cx="8380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862280"/>
            <a:ext cx="9144000" cy="4995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62120" y="9144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80520" y="1523880"/>
            <a:ext cx="2133720" cy="2210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1523880"/>
            <a:ext cx="2819520" cy="228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10080" y="9144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334120" y="1676160"/>
            <a:ext cx="0" cy="152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4120" y="1676520"/>
            <a:ext cx="3581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15400" y="1676520"/>
            <a:ext cx="0" cy="152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905040"/>
            <a:ext cx="9144000" cy="5938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914400" y="3049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The Prophets Fit After The Kingdom Divi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Kingdom Divid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Kings 12:1-20; 2 Chron.10:1-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ah (Southern Kingdom) – 2 Trib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hoboam – 17 Years (evi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 (Northern Kingdom) – 10 Trib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roboam – 22 Years (evi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209680" y="3049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nd Div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20:31:12Z</dcterms:created>
  <dc:creator> Tab Vines</dc:creator>
  <dc:description/>
  <dc:language>en-US</dc:language>
  <cp:lastModifiedBy>Frank D Vines</cp:lastModifiedBy>
  <dcterms:modified xsi:type="dcterms:W3CDTF">2005-07-04T03:38:28Z</dcterms:modified>
  <cp:revision>5</cp:revision>
  <dc:subject/>
  <dc:title>Till There Was No Remedy</dc:title>
</cp:coreProperties>
</file>